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312-04DC-4579-85F0-B5B55503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061-EEB0-4D0A-AECA-9BA6A248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57A-664B-40A5-B373-E816FD58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4B1-EA72-443A-898A-206604A0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11D8-ECCA-44A6-ADF0-26EA1D2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2635-3F96-455C-998B-BBAED401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5E6A-F76B-4EBD-927D-594A682A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93AB-4802-476E-AA85-DCE5B4C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68C6-4F86-497E-AD91-DA0EA39E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7221-1AC0-4BB9-ABFF-4B94C76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AB6F-7B8A-498A-A1E5-C878C82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B5E-5C79-45DE-9D17-47819052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1EA-A551-43A4-8717-6A6EFB5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540-C6FD-40EE-B973-B06C311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24D4-1F86-40A6-9448-FB99E34D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762D-ADCF-4571-801B-393F13E8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9D44-115B-4759-8600-B1DFCB04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719-DEA8-43CD-BE7C-9D60697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818-A47C-4018-832C-07C2C6E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1D8-C54E-4914-816C-6768400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904-0BD9-4B75-981B-C63B849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BC7-D593-440A-B2A7-4D5E6A1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273-2FC0-4F9F-92A6-D47A568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450-934E-43B6-B760-BF21FE4A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186A-83B5-4C4A-AA81-B68318D4B79E}" type="slidenum">
              <a:rPr b="0" lang="pl-P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C8EB-E879-456B-A1A0-F22D86651DB5}" type="slidenum">
              <a:rPr b="0" lang="pl-P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ajnowsze ustalenia metodyczne – sztuk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łgorzata Witkows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B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Życie literackie powojennej Polski – wspomnienia twórcó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Literatura polska - historia - 1944-1956 r. -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Pamiętniki polskie - 1944-1956 r. - antolog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isarze polscy - 1944-1956 r –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Moja praca twórcza / Ewa Babi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Babik, Ewa (1970- ) -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Literatura polska - historia – od 1989 r. -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amiętniki polskie - od 1989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Pisarze polscy - od 1989 r. –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ystawy ze zbiorów poszczególnych muzeó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 opracowaniu katalogów wystaw ze zbiorów poszczególnych muzeów nie stosuje się haseł wyrażających dane muzeum z określnikami – zbiory – katalog wystawy + nazwa miejscowości z określnikami – muzealnictwo – zbiory – katalog wystawy (Muzeum Narodowe (Kraków) – zbiory – katalog wystawy + Kraków (woj. małopolskie) – muzealnictwo – zbiory – katalog wystawy). Poprzestajemy na pokazaniu instytucji, w której odbywa się dana wystawa, przedmiotu wystawy i miejscowości z określnikami – wystawy + określnik chronologiczn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rzykład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Wacław Rybotycki : pejzaże i portrety : prace ze zbiorów Muzeum Ziemi Bieckiej w Bieczu i zbiorów rodzinnych. – Biecz, 200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Rybotycki, Wacław (1945-2006)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Muzeum Ziemi Bieckiej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astel (techn.mal.) - 20-21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Pejzaż (szt.plast.) - Polska - 20-21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. Portrety - Polska - 20-21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6. Biecz (woj. małopolskie) – wystawy - od 2001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Kobieta w średniowieczu : wystawa kolekcji ze zbiorów Muzeum Narodowego w Warszawi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Muzeum Narodowe (Warszawa)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Kobieta - 13-15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Warszawa – wystawy - od 1989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legoria, Personifikac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lego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t. odpowiednie tematy z określnikiem - alegoria, np.: Postęp - alegoria, Polska - alego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K Emblema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konograf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ety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W Personifikac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T: Alegoria między pochwałą a naganą : twórczość Jana Jurkowskiego (1580-1635) / Bogusław Pfeiffer. – Wrocław, 199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1. Jurkowski, Jan (1580-1635) - twórczoś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2. Alegoria - w literaturze polski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3. Poezja polska - tematyka - 17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T: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he allegory of love :</a:t>
            </a: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a study in medieval tradition /</a:t>
            </a: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by C. S. </a:t>
            </a: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Lewis, London, 196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1. Literatura - tematyka - 5-15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2. Miłość - alegoria – w literaturz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3. Poezja angielska - tematyka – 11-15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pl-PL" sz="2400" spc="-1" strike="noStrike">
                <a:solidFill>
                  <a:srgbClr val="eaeaea"/>
                </a:solidFill>
                <a:latin typeface="Verdana"/>
              </a:rPr>
              <a:t>T: [Alegoria ziemi] / [Dokument ikonograficzny]. Znane także jako: Projekt winiety do "Chimery" / Franciszek Siedlecki, 1902-190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1. Winiety - projekty - Polska - 20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400" spc="-1" strike="noStrike">
                <a:solidFill>
                  <a:srgbClr val="eaeaea"/>
                </a:solidFill>
                <a:latin typeface="Verdana"/>
              </a:rPr>
              <a:t>2. Ziemia - alegoria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Polonia, Respublica, Patria : personifikacja Polski w sztuce XVI-XVIII wieku / Magdalena Górska. – Wrocław, 200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Sztuka europejska - tematyka - 16-18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Polska - personifikacj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Personifikacje prowincji w sztuce rzymskiej / Janusz A. Ostrowski. – Kraków, 198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Monety rzymskie - tematyka - 3 w. p.n.e.-4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Sztuka rzymska - tematyka - 3 w. p.n.e.-4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Regiony (adm.) - personifikacja - Rzy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tosowanie określnika – ochrona i konserwacj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 opracowaniu dokumentów na temat ochrony różnego rodzaju zabytków stosuje się tematy Ochrona zabytków, Konserwatorstwo i określnik – ochrona i konserwacja. Nie stosuje się określników – ochrona, konserwacj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hitektura – zabytki –ochrona i konserwacja –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hitektura – zabytki – ochrona i konserwacja – encykloped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ysunek – ochrona i konserwacja – Pols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zeźba – ochrona i konserwacja –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 temacie Architektura określnik –ochrona i konserwacja należy zawsze poprzedzić określnikiem –zabytki. Po tematach: Malarstwo, Grafika, Rysunek, Rzeźba stosujemy go bezpośrednio po nich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hitektura – zabytki – ochrona i konserwacja –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larstwo – ochrona i konserwacja – szk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zeźba – ochrona i konserwacja – Polsk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rchitektura – zabytki - ochrona i   konserwac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 Architektura - ochrona i konserwac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 Architektura – zabytki - konserwac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K Konserwatorzy zabytków architektu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kreślnik - ochrona i konserwacja - nie jest stosowany po tematach z dziedziny sztuki z przymiotnikiem językowo-etniczny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hitektura – zabytki – ochrona i konserwacja – Polska – materiały konferencyjn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hitektura sakralna – zabytki – ochron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 konserwacja – Pols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larstwo monumentalne – ochrona i konserwacja – Pols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kreślnik geograficzny wskazuje miejsce, w którym dany zabytek się znajduje. Jeżeli istnieje konieczność wskazania etniczności jakiegoś zabytku z dziedziny sztuki należy użyć odpowiedniego tematu, wyrażającego gatunek sztuki z przymiotnikiem językowo-etnicznym i określnika historia oraz innych odpowiednich określników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Krajobraz kulturowy : działania samorządu Województwa Małopolskiego w zakresie ochrony i opieki nad zabytkami w roku 2007 / red. Agnieszka Szpala, Tomasz Krzaczyński. – Kraków, 200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Architektura - zabytki - ochrona i konserwacja - Pols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Ochrona zabytków - Polska - od 2001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Małopolska - zabytki - ochrona i konserwacj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Dziedzictwo kulturowe w XXI wieku : szan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i wyzwania / red. nauk. Monika A. Murzyn, Jacek Purchla. – Kraków, 200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Architektura – zabytki - ochrona i konserwacja – Europa -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Europa - kultura - historia -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Określniki: geograficzny i chronologiczny po tematach – Karykatury, Portret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określnik chronologiczn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znacza czas powstania karykatury lub portret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osujemy daty wyrażone wiekami np.: 18-19 w., 21 w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kreślniki chronologiczne w postaci dat rocznych stosuje się po temacie Karykatura politycz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określnik geograficzn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po tematach Karykatury, Portrety oznacza narodowość portretowanego. Narodowość autora karykatury lub portretu wyrażamy za pomocą tematów takich jak: Malarstwo, Rysunek, Rzeźba itp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odpowiednim przymiotnikiem etniczny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(szt. plast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prowadzono hasła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dziecię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kobie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męsk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 tematach tego typu nie stosuje się określników geograficznych. Krąg sztuki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jakiej dane akty pochodzą, wyraża się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zez tematy dodatkowe, takie jak: Malarstwo włoskie, Linoryt polski, Sztuka niemieck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adekwatnymi określnikami. W przypadku aktu dziecięcego nie dodaje się tematów rozróżniających płcie, poprzestaje się na temacie Akt dziecięcy z adekwatnymi określnikam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kobie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S Akt (szt.plast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S Kobieta - ikonograf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męsk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S Akt (szt.plast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S Mężczyzna - ikonograf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kt dziecię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S Akt (szt.plast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S Dziecko - ikonograf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Akty kobiece / [fot.] Tomasz Kępny.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Akt kobiecy - 21 w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Fotografia polska - od 2001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Nagość w sztuce polskiej - malarstwo, rysunek, grafika: katalog wystaw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Muzeum Narodowe (Warszawa)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Akt (szt.plast.) - 19-21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Sztuka polska - 19-21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Warszawa - wystawy - od 2001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Akt w sztuce europejskiej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Akt (szt.plast.) - historia - szk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Malarstwo europejskie - tematyka - szk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Nowe określniki : w literaturze, w sztuce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 teatrz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Gra ciałem : o obrazach kobiet w kulturze współczesnej / Jerzy Szyłak. – Gdańsk, 200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Kobieta - w literaturz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Kobieta - stereoty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Kobieta - w sztu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Kultura masowa - a kobie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. Literatura - tematy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6. Sztuka – tematy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Čelovek i priroda v tvorčestve Sergeâ Zalygina / Irena Rudziewicz. – Olsztyn, 200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Zalygin, Sergej Pavlovič (1913-2000) - twórczoś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Antropologia filozoficzna - w literaturze rosyjski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roza rosyjska – tematyka - 20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Przyroda - w literaturze rosyjski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. Wieś - w literaturze rosyjski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Dietrichowie - rytownicy warszawscy / Hanna Widacka. – Warszawa, 198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Dietrich (rodzin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Grafika polska – historia - 19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Rysunek polski – historia - 19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Warszawa – sztuka - 19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Kultura smutku : paradygmaty postaw wobec śmierci w literaturze niemieckiego baroku / Mirosława Czarnecka, Jolanta Szafarz. -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Wrocław, 200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Barok - literatura niemieck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Literatura niemiecka - tematyka - 17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Śmierć – w literaturze niemiecki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Między niebem a sceną : przestrzeń i cza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w teatrze / Jerzy Limon. – Gdańsk, 200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Czas - w teatrz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Przestrzeń - w teatrz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Teatr - histo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Teatr - teo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zykłady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T: Karykatury Polaków i Rosjan / Stanisław Wyspiański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. Wyspiański, Stanisław (1869-1907) - albu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. Karykatury - Polska - 19-20 w. - albu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3. Karykatury - Rosja - 19-20 w. - albu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. Rysunek polski - 19-20 w. - albu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T: Sztuka karykatury okresu Młodej Polski 1890-1918 : wystawa ze zbiorów polskich oraz Lwowskiej Galerii Sztuki, luty-marzec 2003 / Muzeum Karykatury im. Eryka Lipińskiego w Warszawie. – Warszawa, 200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. Muzeum Karykatury im. Eryka Lipińskiego (Warszawa) - katalog wystaw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. Humor rysunkowy polski - 19-20 w. - katalog wystaw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3. Karykatury - Polska - 19-20 w. - katalog wystaw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4. Malarstwo polskie - 19-20 w. - katalog wystaw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5. Warszawa - wystawy - od 2001 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T: Józef Piłsudski w karykaturze polskiej 21 wieku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. Piłsudski, Józef (1867-1935) - ikonograf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2. Karykatura polityczna - Polska - od 2001 r. - albu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3. Rysunek polski - 21 w. - albu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Gabinet Witosa / rysunkiem Zygmunta Skwirczyńskiego. – Warszawa, 192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Skwirczyński, Zygmunt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Humor rysunkowy polski - 1918-1939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Karykatura polityczna - Polska - 1918-1939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Politycy - Polska - 1918-1939 r.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Dzieciństwo III [Trzeciej] RP [Rzeczypospolitej Polskiej] / Aleksander Wołos.  - Olsztyn, 199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ołos, Aleksander (1934- )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Humor rysunkowy polski - od 1989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Karykatura polityczna - Polska - od 1989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Polska - polityka wewnętrzna - od 1989 r.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Agnieszka Kowalska - rysunek i malarstwo / [tekst Anna Jasińska]. – Warszawa, 200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Kowalska, Agnieszka (1958- )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Malarstwo polskie - 21 w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ortrety - Polska - 21 w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Rysunek polski - 21 w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Portret sarmacki : katalog wystawy : Będomin 19 maja - 30 sierpnia 2000 r. / Muzeum Hymnu Narodoweg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Muzeum Hymnu Narodowego (Będomin) - katalog 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Malarstwo polskie - 17-18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ortrety - Polska - 17-18 w. - katalog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Szlachta - ikonografia - Polska - 17-18 w. - katalog  wystaw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. Będomin (woj. pomorskie) - wystawy - od 1989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41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umor rysunkowy – stosowani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Snoopy i porady życiowe /Charles M. Schulz. – Warszawa, 200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Schulz, Charles M. (1922-2000)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Humor rysunkowy amerykański - 1945-1989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Boże toś Polskę .. ! / Henryk Sawka. – Szczecin, 198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Sawka, Henryk (1958- )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Humor rysunkowy polski - 1980-1989 r. –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Rysunki niecenzuralne 1954-1990 / Szymon Kobyliński. – Paris, 199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Kobyliński, Szymon (1927-2002)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Humor rysunkowy polski - 1944-1989 r. - alb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olska – polityka - 1944-1989 r.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Pozdrowienie ze Lwowa / [Dokument ikonograficzny]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Humor rysunkowy polski - 1918-1939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Lwów (Ukraina)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Pocztówka - Polska - 1931-194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Markiz w podróży / [Dokument ikonograficzny]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Odlanicki-Poczobutt, Ryszard (1897-1991)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Obóz jeniecki Hangony - ikonograf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Humor rysunkowy polski - 1939-1945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. Karykatury – Polska - 20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5.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Rysunek - Polska - 1931-194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6.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Akwarela – Polska - 1931-194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7. 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Tusz-pióro – Polska - 1931-194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Nowe hasła: kategorie twórców z odpowiednimi przymiotnikami etnicznym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p.: Malarze polscy, Graficy francuscy, Rzeźbiarze niemieccy it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50 lat Związku Kompozytorów Polskich / [red. Ludwik Erhardt]. - Warszawa, 199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Związek Kompozytorów Polski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Kompozytorzy polscy - organizacje - od 1944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Władysław Strzemiński : uniwersalne oddziaływanie idei / red. nauk Grzegorz Sztabiński. - Łódź, 200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Strzemiński, Władysław (1893-1952) -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Malarze polscy - 20 w. -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Sztuka polska - historia - 20 w. - materiały konferencyjn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Zmiana w opracowaniu pamiętnikó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Dzieje mojego życia / George Sand - Warszawa, 196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Sand, George (1804-1876) -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Pamiętniki francuskie - 19 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Pisarze francuscy - 19 w. -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: Zwidy, wyrocznie, ołtarze : (szkic autobiograficzny) / Jerzy Bereś. - Kraków, 199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Bereś, Jerzy (1930- ) -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Pamiętniki polskie - 1944-1989 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. Rzeźbiarze polscy - 1944-1989 r. - pamiętnik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9:02:18Z</dcterms:created>
  <dc:creator>m.witkowska</dc:creator>
  <dc:description/>
  <dc:language>en-US</dc:language>
  <cp:lastModifiedBy>a.borowska</cp:lastModifiedBy>
  <dcterms:modified xsi:type="dcterms:W3CDTF">2009-06-01T06:07:57Z</dcterms:modified>
  <cp:revision>71</cp:revision>
  <dc:subject/>
  <dc:title>Slajd 1</dc:title>
</cp:coreProperties>
</file>